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8FE-8C02-41DF-819F-87A7E889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6F5-DE61-468A-A827-D9F40AFC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9E4-2339-46CE-8164-BF9FD7ED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17C-AFDF-474E-BAF8-7B08E93A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FBDF-5866-41E6-8EAD-A7D966DB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8107-EDD6-4571-9A90-3C960F4B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4245-9366-471E-99DC-01DF94D6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CFF8-485C-436D-B622-B5E2595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AEBF-AF4B-40E2-9D12-10F1CA1C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CCB9-3405-4038-BD47-9061BE44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C54D-9A43-4A21-A941-53052F0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5B7-AF63-438F-A5B3-00161388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F6DE-939C-4159-A65A-1F7E6DA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303A-9340-4EA3-B63F-EECF42E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6892-75D0-46F2-BA7D-48735A4D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F3C5-C443-49B2-9D8A-5BCC8C13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0E43-8749-4472-AEDC-7F0E7E68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C8A4-5EA8-40EB-BBA7-0E7A7CE8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9D75-72E6-40EB-AC95-081AC9C6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7ED0-E873-4826-B889-98DB71D8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9DE0-9F76-4C71-AC1C-B5905557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2DE3-7268-4A28-9493-EEAA341F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9ED-EE3C-4336-9728-AC9160EF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583D-0F63-461A-81E6-76436501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CAB4-43EA-4807-A9CA-2DD09B3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0C66-3677-439C-8542-0356CC9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8346-089B-40DF-BBD2-75D20DFD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F7ED-38FA-4ECA-AD26-9D978EE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EB56-360D-45C1-B995-C3ECA038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CAA8-6C5E-4BCA-BEED-09ED3CE2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99B5-5364-40E6-A29A-C686A548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D269-90FE-4809-994A-1ED544D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C426-BA88-46F9-BB6B-08C6B616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E51-3DFB-4436-B5A6-A607F279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8B99-B761-4BBB-94C9-0B5D3E30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67E6-62DB-4657-805E-AE99A65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DC39E-32E1-4937-AC12-BDE2F400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0377-E508-4E1B-9716-C6495CCC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9DC0-E01B-4624-B157-B5673CC9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7113-165B-44B3-9202-50AFD67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BEB8-6DDB-4A85-A8FA-F815B82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E250-AD96-471C-AA8E-05D55AD8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4696-458A-4695-9484-09BD718B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C303-7B1E-4E09-A680-5E3438C5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C45-D689-4873-9FE4-3B515BA0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6A78E-19A8-4535-A230-973F35A1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1943-E058-43F0-820D-1EF28585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D9EC-ACDF-4A62-9501-D96D23F1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F168D-746F-4601-8D7F-C85876EF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8AFB-4357-436C-8B91-33CA5941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69F6-BA19-4AEC-B146-B422932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5A27-2151-4072-BCFB-FF7F17B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348E5-E511-4769-8435-B2D3943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9F4B-F922-498E-BBC2-C946D9F7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43BF-7E83-4ED6-B0B3-2747CBA2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513-8598-4BE7-9DFE-D2C22BD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179D-1C29-45F8-B922-1863234E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A9CB-6053-4455-8BA2-4D62E6C5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52593-4701-47AA-8383-B081D14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9482B-4D36-45E0-A597-1F83B34B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363D-F00D-4B83-A555-D369B13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F7DC2-E27B-4D08-96BB-F4665980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9BA62-0EBF-42B6-AF86-224823C9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CEB3B-E68D-4712-962E-36A6157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368B-90E1-4634-8751-7DA41C1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EBA48-C6C2-4941-8837-59CE5F8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0FB-4FB5-4BF2-9381-96A522C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AE490-219C-49B7-8810-98408AE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60C3-F1AC-4566-BF6D-79320788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372FF-8643-4327-8869-DC353C27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59A64-B163-4DF7-84B9-1E4D0B8A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DF8B-644D-4307-88C0-7EC382FC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ACE38-0FCE-4026-9E01-AC266A6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F5AE-4814-4B4C-94E0-CD01F6BB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60C8D-BEE1-4308-A230-4B9E9FB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6EDE-80AE-4D8D-9C7A-86F02AED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5CFA-DBDD-40E5-9AAC-43A4BA6C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BE6-976F-480E-992D-6D8767B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EC47-6EAE-417F-92EE-4594620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8D54B-3F8F-4E10-8A1B-33DED91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A62CC-58BB-4C40-81B3-4CCEC2C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1FC94-E1AE-458C-9549-0E1752A4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AE02A-C545-489E-8504-D30930D7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248-E857-4FD8-A1EA-D66ADB1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1242-0B53-4DFB-9B8C-78F557E2390E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AD5A-E8EE-4138-A960-7440B10B4521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7332-2E90-4F6B-90E7-B25A1E150AB9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66F-5CF5-40F2-A6C5-AE39A086EB9F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0E7-6868-4FE5-9B7D-3B12E7DCF670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993-5581-4B0D-BB97-3298D1C1A473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C2E6-C4C1-49A9-9A59-7A08FFCF589D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Induction aims to familiarise new members of staff with the organisation and its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an be informal or highly structu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Includes organisation’s facilities, physical layout, key personnel, organisational rules and procedu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Is the process of developing workplace skil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raining is often skill based (such as learning how to develop a new piece of machiner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raining is necessary for both new staff and existing staf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Focuses more on increasing the knowledge base of employe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Example: Lawyers regularly attend professional development sessions that keep them up-to-date with the latest changes in the law, this improves their knowledge but not their skil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Without training and development skills become out of date very quick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A good training program will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make allowances for differences among 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staf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link the training to evaluation of current 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jo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Give feedback on progress to the train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Provide opportunities for follow 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Be evaluated regular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Staff will leave if they don’t feel appreciated. Recognition does not cost anything and can be done through meetings and newslet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Rewards can be given in the form of financial bonuses, holidays, shares, promotions and gif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Keeping staff motivated and happy is the aim of recognition and rewa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When you have to replace a staff member it is costly and you lose skill and knowled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3:42:45Z</dcterms:created>
  <dc:creator>Eliza Wilford</dc:creator>
  <dc:description/>
  <dc:language>en-US</dc:language>
  <cp:lastModifiedBy>Ernest Reichelt</cp:lastModifiedBy>
  <dcterms:modified xsi:type="dcterms:W3CDTF">2013-06-26T13:13:47Z</dcterms:modified>
  <cp:revision>2</cp:revision>
  <dc:subject/>
  <dc:title>The employment cycle - Maintenance</dc:title>
</cp:coreProperties>
</file>